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D1F-82C6-4F69-894B-16EC2C95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FDE-0EDA-4220-AA91-454AF133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7DB-0926-4ADF-84A8-D7761600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0B7-D565-41DC-AD9E-1044D2CC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5C8-3AEE-4874-A2B6-03A89EA7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C9F-C03D-4426-9AB0-C82BF07E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354-B493-44DC-839B-774EB45A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BAE-587E-4D60-86E9-3C3EBD06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F22-F3B2-45D6-B4C5-476F94DD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8ED-B15F-4813-AC25-8526C09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BF9-DF5C-487F-BEC1-999C156D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735-C435-4E14-A59B-C1FBA9BE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8170-DD5A-4BFE-ABAB-C29FA716A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826920" y="189000"/>
            <a:ext cx="749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Зна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правила дорожнього рух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D:\школа\наглядность\Охорона здоров'я  плакати\Небезпека на дорозі.bmp"/>
          <p:cNvPicPr/>
          <p:nvPr/>
        </p:nvPicPr>
        <p:blipFill>
          <a:blip r:embed="rId1"/>
          <a:stretch/>
        </p:blipFill>
        <p:spPr>
          <a:xfrm>
            <a:off x="1187280" y="1700280"/>
            <a:ext cx="669780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0105840-Cugnot_s_Engine_1769-SPL"/>
          <p:cNvPicPr/>
          <p:nvPr/>
        </p:nvPicPr>
        <p:blipFill>
          <a:blip r:embed="rId1"/>
          <a:stretch/>
        </p:blipFill>
        <p:spPr>
          <a:xfrm>
            <a:off x="0" y="0"/>
            <a:ext cx="5508720" cy="4078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img0.liveinternet.ru/images/attach/c/10/110/481/110481600_Cugnot.jpg"/>
          <p:cNvPicPr/>
          <p:nvPr/>
        </p:nvPicPr>
        <p:blipFill>
          <a:blip r:embed="rId2"/>
          <a:stretch/>
        </p:blipFill>
        <p:spPr>
          <a:xfrm>
            <a:off x="5580000" y="3068640"/>
            <a:ext cx="3564000" cy="3789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6012000" y="2060640"/>
            <a:ext cx="2881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нахідник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Жан Кюнь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63880" y="4149720"/>
            <a:ext cx="47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ший паровий автомобі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769 рік. Фран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mini_3"/>
          <p:cNvPicPr/>
          <p:nvPr/>
        </p:nvPicPr>
        <p:blipFill>
          <a:blip r:embed="rId1"/>
          <a:stretch/>
        </p:blipFill>
        <p:spPr>
          <a:xfrm>
            <a:off x="4548240" y="0"/>
            <a:ext cx="459576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Istoriya-vozniknoveniya-emblemy-Mercedes-Benz"/>
          <p:cNvPicPr/>
          <p:nvPr/>
        </p:nvPicPr>
        <p:blipFill>
          <a:blip r:embed="rId2"/>
          <a:stretch/>
        </p:blipFill>
        <p:spPr>
          <a:xfrm>
            <a:off x="0" y="3224160"/>
            <a:ext cx="4859280" cy="3633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551520" y="2421000"/>
            <a:ext cx="344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нахід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арл Бенц і Даймл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4572000" y="342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втомобіль з бензинов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отором – мотоколяска. 1885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и по запросу картинки заборонні знаки українською мовою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и по запросу картинки застережливі знаки українською мово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и по запросу картинки заборонні знаки українською мово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8688_html_md13ff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f41acb2c6b671b4e9e052f4280b7de2"/>
          <p:cNvPicPr/>
          <p:nvPr/>
        </p:nvPicPr>
        <p:blipFill>
          <a:blip r:embed="rId1"/>
          <a:stretch/>
        </p:blipFill>
        <p:spPr>
          <a:xfrm>
            <a:off x="4680" y="1341360"/>
            <a:ext cx="9139320" cy="55166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498400" y="333360"/>
            <a:ext cx="430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риписуючі зн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Картинки по запросу картинки заборонні знаки українською мово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z1"/>
          <p:cNvPicPr/>
          <p:nvPr/>
        </p:nvPicPr>
        <p:blipFill>
          <a:blip r:embed="rId1"/>
          <a:stretch/>
        </p:blipFill>
        <p:spPr>
          <a:xfrm>
            <a:off x="0" y="620640"/>
            <a:ext cx="90964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и по запросу картинки Інформаційно-вказівні знаки українською мовою"/>
          <p:cNvPicPr/>
          <p:nvPr/>
        </p:nvPicPr>
        <p:blipFill>
          <a:blip r:embed="rId1"/>
          <a:srcRect l="0" t="0" r="0" b="464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xn--80aqafcrtq.cc/img/4/7/8/%D0%A0%D0%B5%D0%BA%D0%B0,%20%D0%B2%D0%BE%D0%B4%D0%BE%D0%BF%D0%B0%D0%B4,%20%D0%BC%D0%BE%D1%81%D1%82,%20%D0%BC%D0%BE%D1%81%D1%82%D0%B8%D0%BA,%20%D0%B1%D1%80%D0%B5%D0%B2%D0%BD%D0%B0,%20%D0%B2%D0%BE%D0%B4%D0%B0,%20%D0%BA%D0%B0%D0%BC%D0%BD%D0%B8,%20%D0%B3%D0%BE%D1%80%D0%BD%D0%B0%D1%8F,%204256x2832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ttps://travel.rambler.ru/media/original_images/4dd4ccce5bf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http://www.garazh.com.ua/Remont%20dorog(2)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http://usiter.com/uploads/20101011/doroga_asfaltnaj_doroga_4882.jpg"/>
          <p:cNvPicPr/>
          <p:nvPr/>
        </p:nvPicPr>
        <p:blipFill>
          <a:blip r:embed="rId2"/>
          <a:stretch/>
        </p:blipFill>
        <p:spPr>
          <a:xfrm>
            <a:off x="4572000" y="3141720"/>
            <a:ext cx="4572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http://ic.pics.livejournal.com/teachron/67407322/1052635/1052635_9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http://www.austinsentinel.com/wp-content/uploads/sites/67/2016/08/HansomCa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8" descr="http://www.metronews.ru/novosti/na-trotuarah-sadovogo-kol-ca-pojavjatsja-skamejki/Tpokie---1LkwETgjqohVs/2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9" descr="http://tsaricino.mos.ru/upload/medialibrary/37c/trotuar.jpg"/>
          <p:cNvPicPr/>
          <p:nvPr/>
        </p:nvPicPr>
        <p:blipFill>
          <a:blip r:embed="rId1"/>
          <a:srcRect l="0" t="0" r="0" b="236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9fb051cc2d7e1b1c7bbe9a0da8f1af6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4T12:58:45Z</dcterms:created>
  <dc:creator>User</dc:creator>
  <dc:description/>
  <dc:language>en-US</dc:language>
  <cp:lastModifiedBy>User</cp:lastModifiedBy>
  <dcterms:modified xsi:type="dcterms:W3CDTF">2017-01-20T15:09:05Z</dcterms:modified>
  <cp:revision>29</cp:revision>
  <dc:subject/>
  <dc:title>Слайд 1</dc:title>
</cp:coreProperties>
</file>